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DFE-146F-438E-AEA3-B3AB2DF1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F73-D363-4A80-9715-7A5DE573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9C7-24B1-4042-888D-3739C5FF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4F5-B680-49C3-8827-F3DC610C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219-6612-4F66-BC0E-A558BCD1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049-42C1-4A9E-A116-A8F452C8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E56-8681-404E-89EB-522EFAC9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064-BBE5-41E2-955D-3ADE369E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2B3-04DD-464E-BBA8-3AA98F89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4A6-1B52-4AD1-8601-FD3DA4E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30E-B64B-4879-9789-E3046AE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E91-17F4-44DA-951D-CE088CE8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A065-A51C-40A2-8F81-12B313601C4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uk.wrs.yahoo.com/_ylt=A0geumcps.1E1OQABEFNBQx./SIG=1giitmoh2/EXP=1156514985/**http%3A//uk.search.yahoo.com/search/images/view%3Fback=http%253A%252F%252Fuk.search.yahoo.com%252Fsearch%252Fimages%253Fp%253Ddecay%252Bdeath%2526ei%253DUTF-8%2526fr%253Dbtfp-img%2526x%253Dwrt%26w=189%26h=250%26imgurl=www.spookyplanet.com%252FSPNew%252Fhorror_masks%252Fimages%252Fdecay_du528-l.jpg%26rurl=http%253A%252F%252Fwww.spookyplanet.com%252FSPNew%252Fhorror_masks%252Fdecay_du528.html%26size=12.8kB%26name=decay_du528-l.jpg%26p=decay%2Bdeath%26type=jpeg%26no=2%26tt=475%26oid=2ba495a2fff3045c%26ei=UTF-8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es thèmes du réci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7417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2781360"/>
            <a:ext cx="2592360" cy="105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Irrationality of Univers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268280"/>
            <a:ext cx="259236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Meaningless of lif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1341360"/>
            <a:ext cx="259236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Physical Worl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4149720"/>
            <a:ext cx="259236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Death and Deca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4149720"/>
            <a:ext cx="259236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Watch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5445000"/>
            <a:ext cx="259236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Innocence and Guil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340000" y="2491920"/>
            <a:ext cx="287280" cy="289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075280" y="2565360"/>
            <a:ext cx="360360" cy="2160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555640" y="3573360"/>
            <a:ext cx="14292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3573360"/>
            <a:ext cx="0" cy="18716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0920" y="3573360"/>
            <a:ext cx="43308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808200" cy="606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893880" cy="647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4581360"/>
            <a:ext cx="519120" cy="6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724360" y="4508640"/>
            <a:ext cx="816120" cy="815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348000" y="5877000"/>
            <a:ext cx="83520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Steve Badger</cp:lastModifiedBy>
  <dcterms:modified xsi:type="dcterms:W3CDTF">2006-08-24T14:13:49Z</dcterms:modified>
  <cp:revision>3</cp:revision>
  <dc:subject/>
  <dc:title>Les thèmes du récit</dc:title>
</cp:coreProperties>
</file>